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EBEF8-9D12-4B0A-8C2B-2D6498737C73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F851D-A09E-444B-8729-97F3B8FF0EAC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3B38E-45DD-451C-A750-28B741C7528B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CD6-1817-463F-8237-F9982559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7A9-F71F-4F05-8F8F-BB3201DA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49D-A2C9-4F35-9E10-788C6249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F7E-2DB7-4B75-BA57-37C77EF3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44B-1832-428C-BFE7-5D27BB0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D95-8E43-4EE4-88A9-C537B4EA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79F-1FED-49BC-972C-1C5E8F2E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F8F-2746-41F3-809E-6FD27ED8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F3FC-81E8-47E4-B2C8-28B7A09F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FFB-BF57-4D55-B7B8-5F2B7C27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426-D442-470C-82C6-D1B8DB0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2D1-67A9-486A-ACE1-124A361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C9646D-2855-4C53-8C76-0D458EF5F0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304920" y="3095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UNIÃO DO CONSELHO NACIONAL DE PREVIDENCIA –CN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27/09/20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2"/>
          <p:cNvSpPr/>
          <p:nvPr/>
        </p:nvSpPr>
        <p:spPr>
          <a:xfrm>
            <a:off x="304920" y="31240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Apresentação sobre Resolução nº 656 do Instituto Nacional do Seguro Social, de 4 de setembro de 2018, referente bloqueio da margem do consignado por até 180 dias, prorrogáveis por mais 180 di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1"/>
          <p:cNvSpPr/>
          <p:nvPr/>
        </p:nvSpPr>
        <p:spPr>
          <a:xfrm>
            <a:off x="304920" y="838080"/>
            <a:ext cx="853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INS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4"/>
          <p:cNvSpPr/>
          <p:nvPr/>
        </p:nvSpPr>
        <p:spPr>
          <a:xfrm>
            <a:off x="380880" y="762120"/>
            <a:ext cx="853452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CP Pará nº 2008.39.00.003206-22200 (ACP/PA) – prevê a suspensão dos descontos relativos ao empréstimo consignado quando os aposentados e pensionistas  alegam não reconhecimento do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Em cumprimento à Ação, regulamentado pelo Memorando-Circular nº 21/DIRBEN/CGBENEF de 04 de agosto de 2008 – as Agências da Previdência, por solicitação dos beneficiários, excluíam imediatamente o empréstimo e a margem era liberada, permitindo a contratação de novo empréstimo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4"/>
          <p:cNvSpPr/>
          <p:nvPr/>
        </p:nvSpPr>
        <p:spPr>
          <a:xfrm>
            <a:off x="380880" y="838080"/>
            <a:ext cx="8382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ós as medidas tomadas houve crescente número de exclusões de empréstimos e contratação de no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o final da apuração quando comprovada a autenticidade do contrato, não era possível a sua reativação devido a ocupação da margem consignável por novos empréstim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4"/>
          <p:cNvSpPr/>
          <p:nvPr/>
        </p:nvSpPr>
        <p:spPr>
          <a:xfrm>
            <a:off x="45720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tângulo 2"/>
          <p:cNvSpPr/>
          <p:nvPr/>
        </p:nvSpPr>
        <p:spPr>
          <a:xfrm>
            <a:off x="228600" y="1523880"/>
            <a:ext cx="861048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2013 para aprimorar o cumprimento à ACP/PA, foi publicada a Resolução nº 321/PRES/INSS de 11/07/2013 – os contratos eram suspensos, porém  a margem ficava bloqueada por até 60 dias para apuração da regularidade de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a publicação da Resolução nº 321/2013, verificou-se que o prazo de bloqueio da margem mostrou-se insuficiente, dando vazão à má prática de suspensão de um contrato para inclusão de um novo, antes da apuração da veracidade do contrato contest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4"/>
          <p:cNvSpPr/>
          <p:nvPr/>
        </p:nvSpPr>
        <p:spPr>
          <a:xfrm>
            <a:off x="4921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tângulo 1"/>
          <p:cNvSpPr/>
          <p:nvPr/>
        </p:nvSpPr>
        <p:spPr>
          <a:xfrm>
            <a:off x="228600" y="1219320"/>
            <a:ext cx="864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Parecer de Força Executória nº 00001/2018/NUPREV/PGPA/PGU/AGU, recomendou então a suspensão do desconto consignado e consequentemente o bloqueio da margem consignável até a finalização do procedimento administrativo de apuração de eventuais irregularidad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complemento ao Parecer acima, foi editado o Parecer nº 00001/2018/SAADM/PFE-INSS-SEDE/PGF/AGU, recomendando estipulação de prazo de até 180 dias para conclusão da apuraçã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4"/>
          <p:cNvSpPr/>
          <p:nvPr/>
        </p:nvSpPr>
        <p:spPr>
          <a:xfrm>
            <a:off x="457200" y="1166760"/>
            <a:ext cx="83818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i publicada então a Resolução nº 656/PRES/INSS, de 4 de setembro de 2018, que prevê bloqueio da margem até o final da apuração. Podendo a margem ficar bloqueada por até 180 dias, prorrogáveis por igual período mediante justifica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aixaDeTexto 2"/>
          <p:cNvSpPr/>
          <p:nvPr/>
        </p:nvSpPr>
        <p:spPr>
          <a:xfrm>
            <a:off x="304920" y="3095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ALBERTO CARLOS FREITAS ALEG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Black"/>
              </a:rPr>
              <a:t>COORDENADOR –GERAL DE GERENCIAMENTO DO PAGAMENTO DE BENEFÍ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lberto.alegre@inss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2"/>
          <p:cNvSpPr/>
          <p:nvPr/>
        </p:nvSpPr>
        <p:spPr>
          <a:xfrm>
            <a:off x="304920" y="3095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gulamentação dos convênios celebrados com o INSS, preconizado pelo artigo nº 115 da Lei nº 8.213/9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5680" y="760320"/>
            <a:ext cx="90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2133720"/>
            <a:ext cx="8686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Lei 8.213/9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rt. 115.  Podem ser descontados dos benefíci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     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(.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V - mensalidades de associações e demais entidades de aposentados legalmente reconhecidas, desde que autorizadas por seus filiados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1280" y="571680"/>
            <a:ext cx="9001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OBJETIVO DOS 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6600" y="990720"/>
            <a:ext cx="9001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Rectangle 2" descr=""/>
          <p:cNvPicPr/>
          <p:nvPr/>
        </p:nvPicPr>
        <p:blipFill>
          <a:blip r:embed="rId3"/>
          <a:stretch/>
        </p:blipFill>
        <p:spPr>
          <a:xfrm>
            <a:off x="0" y="1932120"/>
            <a:ext cx="922968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28600" y="17524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tualmente 18 entidades estão conveniadas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 formalização de novos convênios estão condicionadas a entidades que possuem abrangência nacion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Aproximadamente 2,75 milhões de benefícios com   descontos, com repasses de R$ 57,5 milhões mens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  Controle periódico dos 2.75 milhões benefícios que atualmente encontram-se com descontos de mensalidades associativ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ângulo 1"/>
          <p:cNvSpPr/>
          <p:nvPr/>
        </p:nvSpPr>
        <p:spPr>
          <a:xfrm>
            <a:off x="2286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6640"/>
            <a:ext cx="8229600" cy="15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040" y="15238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vulgação do Acordo e seus anexos aos seus funcionários e sindicatos fili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formulário de autorização deve ser específico para este fim, não devendo utilizá-lo, por exemplo, para filiação de segurado ao sindicato ou para autorização de outros tipos de descont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dos arquivos na sede das entidades conveni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 flipV="1">
            <a:off x="1476360" y="204912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ção dos arquivos de forma a permitir a rápida e eficaz localização das fichas na ordem solicitada pelo IN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ncaminhamento de arquivo à DATAPREV com solicitação de inclusão de novos descontos somente quando estiver de posse dos formulários de autorização assinados pelos segur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7808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r seus funcionários e sindicatos filiados para a obrigatoriedade de que as autorizações sejam assinadas pelos titulares dos benefícios que autorizarão os descont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6600" y="990720"/>
            <a:ext cx="90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IDADES ACORDANT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92160" y="1560600"/>
          <a:ext cx="5359680" cy="4605120"/>
        </p:xfrm>
        <a:graphic>
          <a:graphicData uri="http://schemas.openxmlformats.org/drawingml/2006/table">
            <a:tbl>
              <a:tblPr/>
              <a:tblGrid>
                <a:gridCol w="1155960"/>
                <a:gridCol w="2133360"/>
                <a:gridCol w="2070360"/>
              </a:tblGrid>
              <a:tr h="242640">
                <a:tc gridSpan="2"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DADE DE CLAS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GÊ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B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F/ FETRA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NAP/F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AP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I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R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M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F/CNTT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RA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AM-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os/MON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Silvana do Socorro Machado Rodrigues - MPS</cp:lastModifiedBy>
  <dcterms:modified xsi:type="dcterms:W3CDTF">2018-09-27T11:37:15Z</dcterms:modified>
  <cp:revision>95</cp:revision>
  <dc:subject/>
  <dc:title>Slide 1</dc:title>
</cp:coreProperties>
</file>